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B62-1F13-40C2-B54E-9F5273F5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FBE-1B56-4B2F-90FD-0CA68A4C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FF99A-8079-4EBD-B534-21D92694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A6A29-D134-417A-8108-EF7E8DC6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5BF80-8EEA-4EFC-B41D-2F037AC4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B301C-F85E-4193-9E64-E68BFDE2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2F0B3-01B1-40E5-AF0E-28323C15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59660-1AD5-4751-BF31-B1513EED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A2B48-ADF7-4F4A-B86B-DAD7073E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AF44A-C20D-4676-B357-1A91A4B4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CEAB4-0A89-42CD-8DEE-51C31A07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5936E-05AF-425A-92E5-EDB10002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BAC-620D-4737-9192-68D20CED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05847-8387-4112-B8BE-F6E8882F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29DAA-E44C-4DC6-AAEE-5EFE0C15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53AC5-1001-4AB6-8FFF-6A2DA766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F23B3-14FB-4D33-87B3-774149EF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A670B-F3A4-4383-9A08-A4794B1A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6286C-6FFE-41D9-9DF7-87DC4D6F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66A59-D9B7-4FB3-B1F0-8FAAF70A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63072-708F-46DD-AF0F-402B105C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CF6F4-C27A-4EA6-880D-01CFD9FF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BCF2B-FF9D-41D4-9205-0E95072B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7ED-664D-425D-93CF-3A2D9FCD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DB085-7AD2-4163-BEBC-568D165E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F8928-963A-4D5D-B5F6-20D971E9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BCBDE-60B2-409A-A322-D9DA1426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FA83D-1271-49EE-A88F-3780A7B2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988F0-55AB-4012-8BA5-CB68AB92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A6C7A-49EF-4E11-B3C6-C5F3CDE9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96869-BFC6-40B0-B2E8-F3342E1B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5D1B7-27E9-403F-BFBB-FEC3BDBE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AD2D5-32A6-4C86-9D3B-88AA8E98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CB779-5431-4B36-86F4-7660A4DC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8B3A-2A35-4AA4-B2CB-0469FDA8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B5ABA-E6F9-46DC-A417-0DA477F4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5891F-98BE-451B-A2C3-D5D2978E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CB4CE-A2A9-4ACB-8849-12DB185E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033DF-A3EB-42CC-8063-C7582EE6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154A1-31EB-4F69-9405-569AA248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75CD1-E493-4E48-9EBF-5E479A71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9AF4B-D0E0-48AA-93BE-0B9A5426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72860-B6C0-4963-9B56-E2946739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DE46B-1507-475D-9EB2-B1FB3781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14C06-D765-48ED-935D-1CC378A2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BEFA-8265-47A3-AF9F-7CA0A390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4A207-A5B0-4E1B-9FA5-FDA7F6C9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A07CE-E20D-4F9A-9FCE-6F740B57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3CE34-7464-42A2-894D-8502CEFF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70A9D-DAC9-48E5-BF22-D445618D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8E40F-8DE7-4CB0-9CB0-FBB54CBA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41AD-FB6C-4FFF-9E5E-9A502E2C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C33C-0B50-4952-BF87-1F74D297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0709-CEC1-4CE9-9FD5-F6EDA5D4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05BC-03A8-4F13-9C17-0C998741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E0A5-FCF5-4579-87D7-23EC447B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B2C-E7A8-4093-B2C7-56FB8436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2A4C-8DA0-4D2D-99FC-51A9F982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3A2A-A768-40F2-B12F-B4547952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E3F9-147E-403C-B2E8-917D9BBC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53F8-50F4-483B-9BFA-41B0D8FB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AD92-A5EC-4E4B-A5BF-638F7987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ACE8A-7A87-4513-B1C7-C229B801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E1549-264F-4866-99B6-21562DC1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FB2D-E803-4DE5-B2BA-B5597CE2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BF0C5-7968-41C9-ABA8-70A0122A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F38E-CD08-477F-AB8F-1CF1365C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B7C-C8D0-4CF3-8EA8-E27910C4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570E8-D820-4CB9-B2BF-F4274A11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7F200-9BAE-43E2-98E8-1F973700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C4979-EC77-462F-BE3F-EBA2AFC8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6072-7F81-43D1-9DE4-26E1C8E4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7D50-647A-4C03-861B-C79C54DE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83EE-E348-4957-8250-0C13F1B8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8DD51-25E4-4C11-90EF-F2396638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317D8-2A34-4AF0-8FF4-4C174A8E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BF4F0-0E7B-4370-934F-6FD01EE5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FF1BF-E559-4073-98EE-DF9BA27C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87D-2D39-45AF-B3A7-C9CB3F08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BD0D5-630F-45FF-A8F6-7720CB17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B74B8-BEF2-429C-B01A-3FE11F2E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21B1D-C430-4348-B6E4-08715EA5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EA78B-ECA1-40CE-A87A-FABCC2CC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C6E8-5A5F-48E4-B12B-1C98AB80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E1C71-584C-431A-BB13-BCC80525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B4723-4710-4911-B0DE-D82A50A2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34423-5ABE-4904-8BDA-AEDACC7C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725B-B714-498F-BE3B-4392FE55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5CD74-A0BB-4C22-8CDD-3D257096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2E3-232E-4B48-A1A3-118972D1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6D4D4-43B1-4CC3-8E56-C5FF65D8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8A5A1-A196-431D-869C-80EC8B88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08918-80AD-4EB8-B311-A40F305B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B8B24-38B9-43D6-AD6E-4C507A99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E1D48-8725-4701-BC1A-79838173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CABB7-956A-4B3A-A462-1F7D182D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E3E68-BA25-4E0C-8CF0-8D197ABB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FB0EA-1E2E-4A7E-BF6F-A7C9A533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78026-608A-4B4E-9CD9-6124CD06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C0C9A-D81E-406F-BDDD-32EDB1EB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AC7-FA9B-4D0D-9D52-D1AA41AF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76AFE-A40E-4B1E-8800-C9A8BCC7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6FA9C-D42F-4432-A1C6-C182C5B8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13BB3-D2DD-4614-8846-40085FEA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515A4-7E6C-424F-A54D-7A0A6638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F32A4-EDFB-4000-BF2A-CCE515BD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81E98-B01E-4509-9BDD-555D728A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41C46-F418-43DA-B7D4-BA9A7905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DB815-7EAB-441C-B7A5-C51D8289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82ECD-CA1A-45D9-A564-95318A6F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D928C-9CCF-46DE-BEED-2094FEEA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1C5-3C3A-4106-91C3-6729823B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A8711-9869-4E02-93E6-76EB68A1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EC4AE-73E2-41C4-981D-234CB587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6DA75-E59E-4AEA-99B9-678040D7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39043-8502-4D4E-B05B-7C37C7FD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D2B9A-5685-48A3-A178-FEEB5AD6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878E5-53BF-47F1-A714-B138C5BF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F30EE-EAD2-4455-AA65-9E459E62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BE96F-ACD6-4882-8031-70EED42A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CC4FD-81A5-435C-8F5B-DC5AFAB0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08268-A042-477C-8527-FE8D1DA8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C84-F6AC-4D99-843F-368C5256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E739F-F488-4F56-8979-CB9A8F68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47EF1-39CC-4930-8056-2D4A7B8A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D0929-7EFD-4325-854A-CDBA837B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1C700-6833-4517-8D36-43DA33C7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5EA30-1D78-4546-8C77-22617D97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E5B1F-F8F8-481C-A669-1A7F2D58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DD4D4-E814-4631-827E-0FA53177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63AE1-3413-435C-90D0-137E8468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B4FCD-2F9D-49BA-B650-D924B6CB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F0DC9-9F0B-4D98-AECC-153E7D74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2AA-A5B7-4DE6-8208-269EC93F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14A27-55A9-4970-85B7-8AB7078E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69AAF-8A61-4E0D-8618-05D377B2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77CF5-ED7F-4516-BAF3-A4D94AC5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21012-FB44-490F-8F95-85423EC9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0521F-4868-4F78-83BD-BE93C41E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89D2B-1268-44F8-A5A5-FB0032DA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4C9C7-3571-498A-8294-756876EA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F5EDE-3383-428B-84B4-BB9E43F9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FF447-37BC-4644-AAD3-8C133E20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D434A-04FA-47D6-83C3-E72DE3B2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66C8-397C-4897-89C8-8EDE3CC285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B846-FC57-4AF7-9B7F-CC08A88518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CFF6-E2FC-4E62-8278-D00D9CD1E76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EE5C-E37A-4FA3-8E9B-F8E59A0718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F9BE-0206-4683-B346-2A6CC993AC8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F953-8290-4F60-BF39-5CAEA9D49F1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224D-FD11-4D72-AE22-C7D6F7E38CA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0D8C-44C7-4190-8F6B-9E2D1C3DB1F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03BC-A741-4C72-9A22-501EBB67341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7733-F73C-4939-A576-E62CFC635F5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53D6-0230-4C2D-87CE-3B9E9F68B9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F5C3-834D-455A-A26C-8BEE841D8CD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61 Pod krížom môjho Pá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d krížom môjho Pá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roj síl je skutoč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tôni Skaly odvek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 úkryt bezpečn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búrok príval utích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otriem s čela zn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útrapách a námah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stíchne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pasiteľa svojho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s láskou hľadieť chc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milosť jeho nezmern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u vrúcne ďak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a mňa trpel na kríž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hriechy zo mňa sň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rel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rťou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tupnou</a:t>
            </a: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6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 život dar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láske môjho Pá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 záruku vždy m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on mi v tiesni pomôž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lu, hriechu odol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túžby sveta, sláva moc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ú márny prelud, kl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ť s Pánom raz vo več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č krajšie nepozn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3T15:52:18Z</dcterms:modified>
  <cp:revision>21</cp:revision>
  <dc:subject/>
  <dc:title>Je veľký náš Pán, on slávy je Kráľ Nech do všetkých strán  spev vrúcnych znie chvál.</dc:title>
</cp:coreProperties>
</file>